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385F-1B64-4D3D-8F3B-EA8D9348A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E9EA-0B76-4766-AE75-EE8BB1C4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2C018-0681-440F-9089-22B2E0E7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5472-C69C-42C7-A632-92C3D4D6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424C-0138-4DDD-86EA-484E200C1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9CB0-DF00-4D7C-813F-B12D76D2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F2DF-B64B-4599-BAB2-3B233B93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83B3-259A-463E-815F-2D7ECB9A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A327-0AFB-4F79-B13C-0B05D32FE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A130-14E3-4E92-A536-DD0E2D7F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3939-427D-46C4-9E9A-597EEBB0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0CB0-C7FA-4AED-A15D-E172C134B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7DE4-EE17-4AE0-A935-E96D1F0EC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Probability Distribution</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52280" y="1600200"/>
            <a:ext cx="8763120" cy="5105520"/>
          </a:xfrm>
          <a:prstGeom prst="rect">
            <a:avLst/>
          </a:prstGeom>
          <a:noFill/>
          <a:ln w="0">
            <a:noFill/>
          </a:ln>
        </p:spPr>
        <p:txBody>
          <a:bodyPr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of distribu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kewnes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rtosi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ition Rule, Multiplication Ru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utation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dition probability (Bayes theorem)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ral limit theorem</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rmal (Gaussian) Distribution and its Properties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normal deviat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omial Distribution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error of the propor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son Distr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 based on ‘t’ disrt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ences </a:t>
            </a:r>
            <a:endParaRPr b="0" lang="en-US" sz="2000" spc="-1" strike="noStrike">
              <a:solidFill>
                <a:srgbClr val="000000"/>
              </a:solidFill>
              <a:latin typeface="Calibri"/>
            </a:endParaRPr>
          </a:p>
        </p:txBody>
      </p:sp>
      <p:sp>
        <p:nvSpPr>
          <p:cNvPr id="43" name="Rounded Rectangle 3"/>
          <p:cNvSpPr/>
          <p:nvPr/>
        </p:nvSpPr>
        <p:spPr>
          <a:xfrm>
            <a:off x="4343400" y="762120"/>
            <a:ext cx="45720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senter : Dr. Abhijit Borat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erator: Mr. Bharam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r. Subodh Gup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ounded Rectangle 4"/>
          <p:cNvSpPr/>
          <p:nvPr/>
        </p:nvSpPr>
        <p:spPr>
          <a:xfrm>
            <a:off x="152280" y="762120"/>
            <a:ext cx="3200400" cy="761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amework </a:t>
            </a:r>
            <a:endParaRPr b="0" lang="en-US" sz="2400" spc="-1" strike="noStrike">
              <a:solidFill>
                <a:srgbClr val="000000"/>
              </a:solidFill>
              <a:latin typeface="Arial"/>
            </a:endParaRPr>
          </a:p>
        </p:txBody>
      </p:sp>
      <p:sp>
        <p:nvSpPr>
          <p:cNvPr id="45" name="Straight Connector 6"/>
          <p:cNvSpPr/>
          <p:nvPr/>
        </p:nvSpPr>
        <p:spPr>
          <a:xfrm flipH="1">
            <a:off x="4492800" y="2135160"/>
            <a:ext cx="2880" cy="1219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a:off x="4495680" y="2362320"/>
            <a:ext cx="1905120" cy="53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ation from conditional probabil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derive the theorem, we start from the definition of conditional probability. The probability of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P(A∩B)/P(B)</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tly, the probability of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A)= P(A∩B)/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ing and combining these two equations, we fi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B)=P(A∩B)=P(B/A) 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emma is sometimes called the product rule for probabilities. Dividing both sides by 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providing that it is non-zero, we obtain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A∩B)/P(B)= P(B/A) P(A)/P(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2280" y="228600"/>
            <a:ext cx="8839440" cy="6400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a:t>
            </a:r>
            <a:r>
              <a:rPr b="0" lang="en-US" sz="2400" spc="-1" strike="noStrike">
                <a:solidFill>
                  <a:srgbClr val="000000"/>
                </a:solidFill>
                <a:latin typeface="Times New Roman"/>
                <a:ea typeface="Times New Roman"/>
              </a:rPr>
              <a:t>Suppose there are two bowls full of cookies. Bowl #1 has 10 chocolate chip cookies and 30 plain cookies, while bowl #2 has 20 of each. Fred picks a bowl at random, and then picks a cookie at random. We may assume there is no reason to believe Fred treats one bowl differently from another, likewise for the cookies. The cookie turns out to be a plain one. How probable is it that Fred picked it out of bowl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uitively, this should be greater than half since bowl #1 contains the same number of cookies as bowl #2, yet it has more pl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clarify the situation by rephrasing the question to "what’s the probability that Fred picked bowl #1, given that he has a plain cookie?” The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that Fred picked bowl #1, and the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that Fred picked a plain cookie. To compute 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e first need to kn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or the probability that Fred picked bowl #1 regardless of any other information. Since Fred is treating both bowls equally, it is 0.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or the probability of getting a plain cookie regardless of any other information. Since there are 80 total cookies, and 50 of them are plain, the probability of selecting a plain cookie is 50/80 = 0.6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a:t>
            </a:r>
            <a:r>
              <a:rPr b="0" lang="en-US" sz="2400" spc="-1" strike="noStrike">
                <a:solidFill>
                  <a:srgbClr val="000000"/>
                </a:solidFill>
                <a:latin typeface="Times New Roman"/>
                <a:ea typeface="Times New Roman"/>
              </a:rPr>
              <a:t>), or the probability of getting a plain cookie given Fred picked bowl #1. Since there are 40 cookies in bowl #1 and 30 of them are plain, the probability is 30/40 = 0.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all this information, we can compute the probability of Fred having selected bowl #1 given that he got a plain cookie by substitu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 P(B/A) P(A)/P(B)=0.75*0.5/0.625=0.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 we expected, it is more than half.</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limit theorem</a:t>
            </a:r>
            <a:endParaRPr b="0" lang="en-US" sz="3600" spc="-1" strike="noStrike">
              <a:solidFill>
                <a:srgbClr val="000000"/>
              </a:solidFill>
              <a:latin typeface="Calibri"/>
            </a:endParaRPr>
          </a:p>
        </p:txBody>
      </p:sp>
      <p:sp>
        <p:nvSpPr>
          <p:cNvPr id="69" name=""/>
          <p:cNvSpPr txBox="1"/>
          <p:nvPr/>
        </p:nvSpPr>
        <p:spPr>
          <a:xfrm>
            <a:off x="152280" y="762120"/>
            <a:ext cx="8839440" cy="59436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X is the mean of a random sample X1, X2, … Xn from a distribution with</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μ and finite variance σ2 &gt; 0, then the distribution of</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σ√ </a:t>
            </a:r>
            <a:r>
              <a:rPr b="0" lang="en-US" sz="2400" spc="-1" strike="noStrike">
                <a:solidFill>
                  <a:srgbClr val="000000"/>
                </a:solidFill>
                <a:latin typeface="Times New Roman"/>
                <a:ea typeface="Times New Roman"/>
              </a:rPr>
              <a:t>n=</a:t>
            </a:r>
            <a:r>
              <a:rPr b="0" lang="el-GR" sz="2400" spc="-1" strike="noStrike">
                <a:solidFill>
                  <a:srgbClr val="000000"/>
                </a:solidFill>
                <a:latin typeface="Times New Roman"/>
                <a:ea typeface="Times New Roman"/>
              </a:rPr>
              <a:t>Σ</a:t>
            </a:r>
            <a:r>
              <a:rPr b="0" lang="en-US" sz="2400" spc="-1" strike="noStrike" baseline="30000">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x=i </a:t>
            </a:r>
            <a:r>
              <a:rPr b="0" lang="en-US" sz="2400" spc="-1" strike="noStrike">
                <a:solidFill>
                  <a:srgbClr val="000000"/>
                </a:solidFill>
                <a:latin typeface="Times New Roman"/>
                <a:ea typeface="Times New Roman"/>
              </a:rPr>
              <a:t>Xi-nu/</a:t>
            </a:r>
            <a:r>
              <a:rPr b="0" lang="el-GR" sz="2400" spc="-1" strike="noStrike">
                <a:solidFill>
                  <a:srgbClr val="000000"/>
                </a:solidFill>
                <a:latin typeface="Times New Roman"/>
                <a:ea typeface="Times New Roman"/>
              </a:rPr>
              <a:t> σ√ </a:t>
            </a:r>
            <a:r>
              <a:rPr b="0" lang="en-US" sz="2400" spc="-1" strike="noStrike">
                <a:solidFill>
                  <a:srgbClr val="000000"/>
                </a:solidFill>
                <a:latin typeface="Times New Roman"/>
                <a:ea typeface="Times New Roman"/>
              </a:rPr>
              <a:t>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roaches a distribution that is N(0,1) as n becomes large.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ther words, when sampling from such a distribution (normal or otherwise), as the sample size increases, the distribution of X gets closer to a normal distribution. When sampling from a normal distribution, the distribution of X will, necessarily, be normal.</a:t>
            </a:r>
            <a:endParaRPr b="0" lang="en-US" sz="24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 none of this implies that when larger samples are taken from a nonnormal distribution the underlying distribution itself becomes normally distributed. Rather, one would witness a clearer picture of the actual </a:t>
            </a:r>
            <a:r>
              <a:rPr b="0" lang="en-US" sz="2400" spc="-1" strike="noStrike">
                <a:solidFill>
                  <a:srgbClr val="000000"/>
                </a:solidFill>
                <a:latin typeface="Times New Roman"/>
                <a:ea typeface="Times New Roman"/>
              </a:rPr>
              <a:t>(nonnormal) distribution itself. The CLT discussed above is involved with assessing the distribution of X , not X—the individual values themselv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rmal (Gaussian) Distribution  </a:t>
            </a:r>
            <a:endParaRPr b="0" lang="en-US" sz="3600" spc="-1" strike="noStrike">
              <a:solidFill>
                <a:srgbClr val="000000"/>
              </a:solidFill>
              <a:latin typeface="Calibri"/>
            </a:endParaRPr>
          </a:p>
        </p:txBody>
      </p:sp>
      <p:pic>
        <p:nvPicPr>
          <p:cNvPr id="71" name="Picture 4" descr=""/>
          <p:cNvPicPr/>
          <p:nvPr/>
        </p:nvPicPr>
        <p:blipFill>
          <a:blip r:embed="rId1"/>
          <a:stretch/>
        </p:blipFill>
        <p:spPr>
          <a:xfrm>
            <a:off x="1290600" y="1219320"/>
            <a:ext cx="6562800" cy="3781440"/>
          </a:xfrm>
          <a:prstGeom prst="rect">
            <a:avLst/>
          </a:prstGeom>
          <a:ln w="0">
            <a:noFill/>
          </a:ln>
        </p:spPr>
      </p:pic>
      <p:sp>
        <p:nvSpPr>
          <p:cNvPr id="72" name="Straight Connector 5"/>
          <p:cNvSpPr/>
          <p:nvPr/>
        </p:nvSpPr>
        <p:spPr>
          <a:xfrm>
            <a:off x="3809880" y="5410080"/>
            <a:ext cx="17528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Straight Connector 7"/>
          <p:cNvSpPr/>
          <p:nvPr/>
        </p:nvSpPr>
        <p:spPr>
          <a:xfrm>
            <a:off x="2971800" y="571500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Straight Connector 11"/>
          <p:cNvSpPr/>
          <p:nvPr/>
        </p:nvSpPr>
        <p:spPr>
          <a:xfrm>
            <a:off x="1981080" y="6323040"/>
            <a:ext cx="5410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Rounded Rectangle 12"/>
          <p:cNvSpPr/>
          <p:nvPr/>
        </p:nvSpPr>
        <p:spPr>
          <a:xfrm>
            <a:off x="4114800" y="50292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 %</a:t>
            </a:r>
            <a:endParaRPr b="0" lang="en-US" sz="1800" spc="-1" strike="noStrike">
              <a:solidFill>
                <a:srgbClr val="000000"/>
              </a:solidFill>
              <a:latin typeface="Arial"/>
            </a:endParaRPr>
          </a:p>
        </p:txBody>
      </p:sp>
      <p:sp>
        <p:nvSpPr>
          <p:cNvPr id="76" name="Rounded Rectangle 13"/>
          <p:cNvSpPr/>
          <p:nvPr/>
        </p:nvSpPr>
        <p:spPr>
          <a:xfrm>
            <a:off x="4114800" y="57150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45 %</a:t>
            </a:r>
            <a:endParaRPr b="0" lang="en-US" sz="1800" spc="-1" strike="noStrike">
              <a:solidFill>
                <a:srgbClr val="000000"/>
              </a:solidFill>
              <a:latin typeface="Arial"/>
            </a:endParaRPr>
          </a:p>
        </p:txBody>
      </p:sp>
      <p:sp>
        <p:nvSpPr>
          <p:cNvPr id="77" name="Rounded Rectangle 14"/>
          <p:cNvSpPr/>
          <p:nvPr/>
        </p:nvSpPr>
        <p:spPr>
          <a:xfrm>
            <a:off x="4191120" y="6324480"/>
            <a:ext cx="990360" cy="3812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7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a:t>
            </a:r>
            <a:endParaRPr b="0" lang="en-US" sz="3600" spc="-1" strike="noStrike">
              <a:solidFill>
                <a:srgbClr val="000000"/>
              </a:solidFill>
              <a:latin typeface="Calibri"/>
            </a:endParaRPr>
          </a:p>
        </p:txBody>
      </p:sp>
      <p:sp>
        <p:nvSpPr>
          <p:cNvPr id="79" name=""/>
          <p:cNvSpPr txBox="1"/>
          <p:nvPr/>
        </p:nvSpPr>
        <p:spPr>
          <a:xfrm>
            <a:off x="152280" y="838080"/>
            <a:ext cx="8763120" cy="5639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tribution is continuous symmetrical curve where both tails extending to infin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measures of central tendency (mean, median and mode)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determine the centre of the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equal to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curve is transferred to a graph, the frequency curve will be bell shaped.</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observation, the more the biological observation, the more it tends to follow the normal distribution and has a symmetrical dimens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 cont…</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pread or variation around mean is represented  by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r the SD greater is the spread of val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1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68%,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2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5%, and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3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9%, of the total area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Confidence Interval</a:t>
            </a:r>
            <a:br>
              <a:rPr sz="3600"/>
            </a:br>
            <a:endParaRPr b="0" lang="en-US" sz="3600" spc="-1" strike="noStrike">
              <a:solidFill>
                <a:srgbClr val="000000"/>
              </a:solidFill>
              <a:latin typeface="Calibri"/>
            </a:endParaRPr>
          </a:p>
        </p:txBody>
      </p:sp>
      <p:sp>
        <p:nvSpPr>
          <p:cNvPr id="83" name=""/>
          <p:cNvSpPr txBox="1"/>
          <p:nvPr/>
        </p:nvSpPr>
        <p:spPr>
          <a:xfrm>
            <a:off x="152280" y="609480"/>
            <a:ext cx="8839440" cy="609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we can not draw large number of samples covering entire population in order to find population mean</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so we set up certain limits on the both sides of the population mean on the basis of the facts that means X of samples of size 30 or more are normally distributed around population 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imits are called as confidence limit and the range bet the two is called as confidence inter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per the normal distribution of samples, we say with confidence that 95% of the sample means will lie within the confidence limits of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1.96SE(X) and 1+1.96S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of occurrence of sample value out side this will be only 5% i.e. 0.05 , means 5/100=1/20 i.e. one in 20 tim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 can be used to describe how reliable survey results a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normal deviate</a:t>
            </a:r>
            <a:endParaRPr b="0" lang="en-US" sz="3600" spc="-1" strike="noStrike">
              <a:solidFill>
                <a:srgbClr val="000000"/>
              </a:solidFill>
              <a:latin typeface="Calibri"/>
            </a:endParaRPr>
          </a:p>
        </p:txBody>
      </p:sp>
      <p:sp>
        <p:nvSpPr>
          <p:cNvPr id="85"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normal curve, it is possible to relate the distance between any observed value (x) and the mean of the curve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s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distance which is called as standard normal deviate or relative normal devi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 </a:t>
            </a:r>
            <a:r>
              <a:rPr b="0" lang="en-US" sz="2400" spc="-1" strike="noStrike">
                <a:solidFill>
                  <a:srgbClr val="000000"/>
                </a:solidFill>
                <a:latin typeface="Times New Roman"/>
                <a:ea typeface="Times New Roman"/>
              </a:rPr>
              <a:t>populatio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n h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ed ht=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D of the normal curve=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18-9/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9/5=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that x can be located at 2 SD distance from the centre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inomial Distribution</a:t>
            </a:r>
            <a:endParaRPr b="0" lang="en-US" sz="3600" spc="-1" strike="noStrike">
              <a:solidFill>
                <a:srgbClr val="000000"/>
              </a:solidFill>
              <a:latin typeface="Calibri"/>
            </a:endParaRPr>
          </a:p>
        </p:txBody>
      </p:sp>
      <p:sp>
        <p:nvSpPr>
          <p:cNvPr id="87" name=""/>
          <p:cNvSpPr txBox="1"/>
          <p:nvPr/>
        </p:nvSpPr>
        <p:spPr>
          <a:xfrm>
            <a:off x="152280" y="685800"/>
            <a:ext cx="876312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ed by Prof. James Bernoulli</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nomial distribution describes the distribution of discrete events or qualitative data. A random variables follow a binomial distribution when each trial has exactly two outcom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p is the probability of occurrence in one trial, q is the probability of non occurrence in same trial (q=1-p ) and n is the number of trials, the probability distribution of outcomes is described by the terms of the expansion of the binomial distribut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the probability of an event to occur is 1, thus p+q=1, q=1-p , So the expression will b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1</a:t>
            </a:r>
            <a:r>
              <a:rPr b="0" lang="en-US" sz="2400" spc="-1" strike="noStrike">
                <a:solidFill>
                  <a:srgbClr val="000000"/>
                </a:solidFill>
                <a:latin typeface="Times New Roman"/>
                <a:ea typeface="Times New Roman"/>
              </a:rPr>
              <a:t>q+nc</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n!/r!(n-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p is very much larger or very much smaller than q, the curve of distribution is quite asymmetrical when “n” is smal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s like these, </a:t>
            </a:r>
            <a:r>
              <a:rPr b="1" lang="en-US" sz="2400" spc="-1" strike="noStrike">
                <a:solidFill>
                  <a:srgbClr val="000000"/>
                </a:solidFill>
                <a:latin typeface="Times New Roman"/>
                <a:ea typeface="Times New Roman"/>
              </a:rPr>
              <a:t>Poisson distribution </a:t>
            </a:r>
            <a:r>
              <a:rPr b="0" lang="en-US" sz="2400" spc="-1" strike="noStrike">
                <a:solidFill>
                  <a:srgbClr val="000000"/>
                </a:solidFill>
                <a:latin typeface="Times New Roman"/>
                <a:ea typeface="Times New Roman"/>
              </a:rPr>
              <a:t>is utiliz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Distribution</a:t>
            </a:r>
            <a:endParaRPr b="0" lang="en-US" sz="3600" spc="-1" strike="noStrike">
              <a:solidFill>
                <a:srgbClr val="000000"/>
              </a:solidFill>
              <a:latin typeface="Calibri"/>
            </a:endParaRPr>
          </a:p>
        </p:txBody>
      </p:sp>
      <p:sp>
        <p:nvSpPr>
          <p:cNvPr id="48" name=""/>
          <p:cNvSpPr txBox="1"/>
          <p:nvPr/>
        </p:nvSpPr>
        <p:spPr>
          <a:xfrm>
            <a:off x="457200" y="762120"/>
            <a:ext cx="8229600" cy="536400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inuous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rm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onent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iform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rete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nom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isson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what are the chances of getting any combination, i.e. 2 boys, 1 girl or 1 boy and 2 girls or three boys or three girls when number of pregnancy is 3? Probability of getting boy or girl if found to be 0.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ress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3 </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0.5, q=1-o.5=0.5, n=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male: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female:q</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male, third female: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female, one male: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error of the proportion</a:t>
            </a:r>
            <a:endParaRPr b="0" lang="en-US" sz="3600" spc="-1" strike="noStrike">
              <a:solidFill>
                <a:srgbClr val="000000"/>
              </a:solidFill>
              <a:latin typeface="Calibri"/>
            </a:endParaRPr>
          </a:p>
        </p:txBody>
      </p:sp>
      <p:sp>
        <p:nvSpPr>
          <p:cNvPr id="90"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in normal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inomial distribution, use √pq /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nature proportion of male is 51%. Supposed in sample (n=100) it is 39%. What inference do we dra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 √pq /n = √51*49/100=4.99</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range we get i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 1(4.99)=5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1(4.99)=46, so it can vary from 46 to 56 perc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bove sample is it 39, which is outside the limit. So it is not likely by ch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51-39/4.99=2.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relative deviate exceed 2.0, the deviation is signific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isson Distribution</a:t>
            </a:r>
            <a:endParaRPr b="0" lang="en-US" sz="3600" spc="-1" strike="noStrike">
              <a:solidFill>
                <a:srgbClr val="000000"/>
              </a:solidFill>
              <a:latin typeface="Calibri"/>
            </a:endParaRPr>
          </a:p>
        </p:txBody>
      </p:sp>
      <p:sp>
        <p:nvSpPr>
          <p:cNvPr id="92"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discrete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occurrence is towards impossible (where p is too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d in social and physical sci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as derived by S.D. Poisson(1781-1840) in 183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is is a limiting distribution of binomial distribution when the number of trials “n” is very large and the probability “p” is too small; the np is fixed number which is called as Poisson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P=(X=x) e-</a:t>
            </a:r>
            <a:r>
              <a:rPr b="0" lang="el-GR" sz="2400" spc="-1" strike="noStrike" baseline="30000">
                <a:solidFill>
                  <a:srgbClr val="000000"/>
                </a:solidFill>
                <a:latin typeface="Times New Roman"/>
                <a:ea typeface="Times New Roman"/>
              </a:rPr>
              <a:t>λ </a:t>
            </a:r>
            <a:r>
              <a:rPr b="0" lang="el-GR" sz="2400" spc="-1" strike="noStrike">
                <a:solidFill>
                  <a:srgbClr val="000000"/>
                </a:solidFill>
                <a:latin typeface="Times New Roman"/>
                <a:ea typeface="Times New Roman"/>
              </a:rPr>
              <a:t>λ </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 count 0,1,2,3,4,5,et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base of natural log=2.718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mean=vari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az-Cyrl-AZ" sz="2400" spc="-1" strike="noStrike">
                <a:solidFill>
                  <a:srgbClr val="000000"/>
                </a:solidFill>
                <a:latin typeface="Times New Roman"/>
                <a:ea typeface="Times New Roman"/>
              </a:rPr>
              <a:t>б</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plified version P</a:t>
            </a:r>
            <a:r>
              <a:rPr b="0" lang="en-US" sz="2400" spc="-1" strike="noStrike" baseline="-25000">
                <a:solidFill>
                  <a:srgbClr val="000000"/>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const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
            </a:r>
            <a:r>
              <a:rPr b="0" lang="el-GR" sz="2400" spc="-1" strike="noStrike">
                <a:solidFill>
                  <a:srgbClr val="000000"/>
                </a:solidFill>
                <a:latin typeface="Times New Roman"/>
                <a:ea typeface="Times New Roman"/>
              </a:rPr>
              <a:t> 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factoria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nder the following condition, we observe that distribution becoming Pois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e of p or q becomes indefinitely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observation becomes (n) very larg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duct of (n) and (p) which is np=mean number of event is always fi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st based on ‘t’ Distribution</a:t>
            </a:r>
            <a:endParaRPr b="0" lang="en-US" sz="3600" spc="-1" strike="noStrike">
              <a:solidFill>
                <a:srgbClr val="000000"/>
              </a:solidFill>
              <a:latin typeface="Calibri"/>
            </a:endParaRPr>
          </a:p>
        </p:txBody>
      </p:sp>
      <p:sp>
        <p:nvSpPr>
          <p:cNvPr id="95"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discovered by WA Gosset who published this under the pen name “Stud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of observations that are naturally paired the “t” test is applied to the mean of the differences between these pairs. This is to visualized whether such a mean is significantly less, greater or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procedure follow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on of pooled S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pooled SD to calculate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io of observed difference to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 table helps us in drawing infer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 distribution the DF used is equal to n-1 or less than the size of sample. When “t” test involves the difference between two means the DF is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mean of the samp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mean of the popul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 SD of the sample mean</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number of observati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appl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test the difference bet sample mean and population me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S=√∑(x-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DF=n-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To test for the difference bet two sample mea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nd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means of two sampl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ooled SD which is found out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variance of sample I=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variance of sample II=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Rounded Rectangle 3"/>
          <p:cNvSpPr/>
          <p:nvPr/>
        </p:nvSpPr>
        <p:spPr>
          <a:xfrm>
            <a:off x="5715000" y="4419720"/>
            <a:ext cx="3048120" cy="2057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n</a:t>
            </a:r>
            <a:r>
              <a:rPr b="0" lang="en-US" sz="2400" spc="-1" strike="noStrike" baseline="-25000">
                <a:solidFill>
                  <a:srgbClr val="000000"/>
                </a:solidFill>
                <a:latin typeface="Times New Roman"/>
                <a:ea typeface="Times New Roman"/>
              </a:rPr>
              <a:t>1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 are sample siz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 will be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52280" y="75960"/>
            <a:ext cx="8839440" cy="6629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To test for paired observation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 the difference bet data of pair directly. If there is no difference, it is zero, if it is more then it is positive and if it is less then it is negative.</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d/ 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d=avg of the differences bet paired observation</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d</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d)</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a:t>
            </a:r>
            <a:endParaRPr b="0" lang="en-US" sz="24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 under each category pair is noted reference made abov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of these diff is found out d</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 is set d=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e SD is found where n is number of pair of observa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ing t test formul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stical inference, with Df=n-1</a:t>
            </a:r>
            <a:endParaRPr b="0" lang="en-US" sz="20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1" lang="en-US" sz="2400" spc="-1" strike="noStrike">
                <a:solidFill>
                  <a:srgbClr val="000000"/>
                </a:solidFill>
                <a:latin typeface="Times New Roman"/>
                <a:ea typeface="Times New Roman"/>
              </a:rPr>
              <a:t>To test for the correlation coefficient</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r √n-2/√1-r</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where , r=correlation coefficien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F=n-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ferences </a:t>
            </a:r>
            <a:endParaRPr b="0" lang="en-US" sz="3600" spc="-1" strike="noStrike">
              <a:solidFill>
                <a:srgbClr val="000000"/>
              </a:solidFill>
              <a:latin typeface="Calibri"/>
            </a:endParaRPr>
          </a:p>
        </p:txBody>
      </p:sp>
      <p:sp>
        <p:nvSpPr>
          <p:cNvPr id="100" name=""/>
          <p:cNvSpPr txBox="1"/>
          <p:nvPr/>
        </p:nvSpPr>
        <p:spPr>
          <a:xfrm>
            <a:off x="457200" y="837720"/>
            <a:ext cx="8229600" cy="586764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ll AB, Hill ID. Bradford Hill’s principles of medical statistics.First Indian edition.New Delhi:B.I.Publication Pvt Ltd; 1993.p.12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wanga SK, Tye CY, Ayeni O. Teaching Health Statistics.WHO.First edition. Jeneva: WHO library; 1999.p58-6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mitage P, Berry G. Statistical Methods in Medical Research. Third edition. Cambridge: Oxford; 1994.p.48-52</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hajan BK. Methods in Biostatistics.6</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ition. Reprint . New Delhi: Jaypee Brothers;2005. p.117-120.</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o KV. Biostatistics, A manual of statistical methods for use in health, nutrition and anthropology. Second edition. New Delhi:Jaypee Brothers;2007.p-63-8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bhakara GN. Biostatistics. First edition. New Delhi:Jaypee Brothers;2006. p.89-94, 129-13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Skewness</a:t>
            </a:r>
            <a:br>
              <a:rPr sz="3600"/>
            </a:br>
            <a:endParaRPr b="0" lang="en-US" sz="3600" spc="-1" strike="noStrike">
              <a:solidFill>
                <a:srgbClr val="000000"/>
              </a:solidFill>
              <a:latin typeface="Calibri"/>
            </a:endParaRPr>
          </a:p>
        </p:txBody>
      </p:sp>
      <p:sp>
        <p:nvSpPr>
          <p:cNvPr id="50"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means lack of symmet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ndicates whether the curve is turned more to one side than to other, i.e. the curve has a longer tail on one 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ositive or nega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curve is more elongated to the right side , i.e. the mean of the distribution is more than the mo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said to be negative if curve is more elongated to the left side i.e. the mean of the distribution is smaller than mo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rl Pearson’s coefficient of skewness = Mean-Mode/S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efficient of skewness is pure number and it is zero for symmetrical 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Kurtosis</a:t>
            </a:r>
            <a:endParaRPr b="0" lang="en-US" sz="4400" spc="-1" strike="noStrike">
              <a:solidFill>
                <a:srgbClr val="000000"/>
              </a:solidFill>
              <a:latin typeface="Calibri"/>
            </a:endParaRPr>
          </a:p>
        </p:txBody>
      </p:sp>
      <p:sp>
        <p:nvSpPr>
          <p:cNvPr id="5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lative flatness or peakedness of the frequency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ß</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 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ability </a:t>
            </a:r>
            <a:endParaRPr b="0" lang="en-US" sz="3600" spc="-1" strike="noStrike">
              <a:solidFill>
                <a:srgbClr val="000000"/>
              </a:solidFill>
              <a:latin typeface="Calibri"/>
            </a:endParaRPr>
          </a:p>
        </p:txBody>
      </p:sp>
      <p:sp>
        <p:nvSpPr>
          <p:cNvPr id="54"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chance factor for an event to occur or not to occ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a mathematical quant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resented a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 P(A)=A/N=No. of  favorable events/ No. of total ev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probability of an event happening is p and not happening is denoted by q, then q=1-p OR p+q=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usually denoted by “P”. Also, probability of event A is denoted by P(A), so probability of non occurrence of A is denoted by Q(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A)=no of non favorable events/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tal  no of events-no of favorable events/total no of ev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dition Rule: Law of Additivity</a:t>
            </a:r>
            <a:endParaRPr b="0" lang="en-US" sz="3600" spc="-1" strike="noStrike">
              <a:solidFill>
                <a:srgbClr val="000000"/>
              </a:solidFill>
              <a:latin typeface="Calibri"/>
            </a:endParaRPr>
          </a:p>
        </p:txBody>
      </p:sp>
      <p:sp>
        <p:nvSpPr>
          <p:cNvPr id="56" name=""/>
          <p:cNvSpPr txBox="1"/>
          <p:nvPr/>
        </p:nvSpPr>
        <p:spPr>
          <a:xfrm>
            <a:off x="228600" y="762120"/>
            <a:ext cx="868680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 rule applies to a situation where we want probability for ‘one of this OR one of t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urning up a one or two on  a dice gives probabilit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 or B)= P(A U B)= P(A) + P(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6 +1/6= 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re events are mutually exclusiv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When events are not mutually exclusive) we have to deduct the overlapping probability (i.e. probability of an ace hear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an Ace heart 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heart +probability of Ace-Probability of Heart and A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52                       + 4/52                     - 1/5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16/52</a:t>
            </a:r>
            <a:endParaRPr b="0" lang="en-US" sz="2400" spc="-1" strike="noStrike">
              <a:solidFill>
                <a:srgbClr val="000000"/>
              </a:solidFill>
              <a:latin typeface="Calibri"/>
            </a:endParaRPr>
          </a:p>
        </p:txBody>
      </p:sp>
      <p:sp>
        <p:nvSpPr>
          <p:cNvPr id="57" name="Rounded Rectangle 3"/>
          <p:cNvSpPr/>
          <p:nvPr/>
        </p:nvSpPr>
        <p:spPr>
          <a:xfrm>
            <a:off x="5638680" y="2057400"/>
            <a:ext cx="2286000" cy="12193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U called as u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ultiplication Rule</a:t>
            </a:r>
            <a:endParaRPr b="0" lang="en-US" sz="3600" spc="-1" strike="noStrike">
              <a:solidFill>
                <a:srgbClr val="000000"/>
              </a:solidFill>
              <a:latin typeface="Calibri"/>
            </a:endParaRPr>
          </a:p>
        </p:txBody>
      </p:sp>
      <p:sp>
        <p:nvSpPr>
          <p:cNvPr id="59" name=""/>
          <p:cNvSpPr txBox="1"/>
          <p:nvPr/>
        </p:nvSpPr>
        <p:spPr>
          <a:xfrm>
            <a:off x="152280" y="76212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that an event will occur jointly is the product of the probabilities of each ev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 and B are independent events, then probability that A and B will occur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A∩B)=P(A) P (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bability of head when coin tossed tw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 1/2=1/4 </a:t>
            </a:r>
            <a:r>
              <a:rPr b="1" lang="en-US" sz="2400" spc="-1" strike="noStrike">
                <a:solidFill>
                  <a:srgbClr val="000000"/>
                </a:solidFill>
                <a:latin typeface="Times New Roman"/>
                <a:ea typeface="Times New Roman"/>
              </a:rPr>
              <a:t>(here each toss is independ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ut of 10 traffic accidents are fatal, probability of  death by one accident is =3/10=0.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death by two successive accident is =3/10 * 3/10 =9/100 </a:t>
            </a:r>
            <a:endParaRPr b="0" lang="en-US" sz="2400" spc="-1" strike="noStrike">
              <a:solidFill>
                <a:srgbClr val="000000"/>
              </a:solidFill>
              <a:latin typeface="Calibri"/>
            </a:endParaRPr>
          </a:p>
        </p:txBody>
      </p:sp>
      <p:sp>
        <p:nvSpPr>
          <p:cNvPr id="60" name="Rounded Rectangle 3"/>
          <p:cNvSpPr/>
          <p:nvPr/>
        </p:nvSpPr>
        <p:spPr>
          <a:xfrm>
            <a:off x="5943600" y="2133720"/>
            <a:ext cx="27432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d = ∩ called as inter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mutation </a:t>
            </a:r>
            <a:endParaRPr b="0" lang="en-US" sz="3600" spc="-1" strike="noStrike">
              <a:solidFill>
                <a:srgbClr val="000000"/>
              </a:solidFill>
              <a:latin typeface="Calibri"/>
            </a:endParaRPr>
          </a:p>
        </p:txBody>
      </p:sp>
      <p:sp>
        <p:nvSpPr>
          <p:cNvPr id="62" name=""/>
          <p:cNvSpPr txBox="1"/>
          <p:nvPr/>
        </p:nvSpPr>
        <p:spPr>
          <a:xfrm>
            <a:off x="228600" y="914040"/>
            <a:ext cx="8686800" cy="563868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mutation means “order of occurrence”</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wo alphabets (a and b)</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arrange as ab or 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b,c can be arranged in following order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Similarly 1,2,3 can be written a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2,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of these is a different permutation</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dition probability (Bayes theorem) </a:t>
            </a:r>
            <a:endParaRPr b="0" lang="en-US" sz="3600" spc="-1" strike="noStrike">
              <a:solidFill>
                <a:srgbClr val="000000"/>
              </a:solidFill>
              <a:latin typeface="Calibri"/>
            </a:endParaRPr>
          </a:p>
        </p:txBody>
      </p:sp>
      <p:sp>
        <p:nvSpPr>
          <p:cNvPr id="64"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obability theory, Bayes' theorem relates the conditional and marginal probabilities of two random events. It is often used to compute posterior probabilities given observ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tement of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yes' theorem relates the conditional and marginal probabilities of events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has a non-vanishing probabil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B/A) P(A)/P(B)</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prior probability or margi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t is "prior" in the sense that it does not take into account any information about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t is also called the posterior probability because it is derived from or depends upon the specified value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prior or margi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nd acts as a normalizing consta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07:54Z</dcterms:created>
  <dc:creator> </dc:creator>
  <dc:description/>
  <dc:language>en-US</dc:language>
  <cp:lastModifiedBy> </cp:lastModifiedBy>
  <dcterms:modified xsi:type="dcterms:W3CDTF">2008-05-24T06:51:45Z</dcterms:modified>
  <cp:revision>141</cp:revision>
  <dc:subject/>
  <dc:title> Probability Analysis </dc:title>
</cp:coreProperties>
</file>